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A25-E78C-4D5F-8865-8E4494CF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661-FE37-41B7-A021-F97B9CDD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4B845-8D1D-4BD0-8461-703C3798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251FA-55DA-40EA-B502-B21B12B7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2E081-D7BE-484F-B02F-8B57E2A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4E4EE-67AF-470C-95F5-F2436B0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CE4D5-EFF4-4653-87E3-42E798DA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A5E04-2B57-4513-9123-2B63214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8D7CF-403A-4924-9BC6-8BA181D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9D489-5FEC-4915-808F-247A4555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B9F40-1C82-4C2A-A7F3-5F0A1730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421A4-5C6A-415E-A75A-6823D6DF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4E8-4570-40E7-8C09-570F5EDD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5934A-5909-4313-93D3-60BD49D0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80B27-C566-46D2-8DB1-7448064A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04404-E762-4336-92C3-2FE4D96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184F4-7FF5-45A1-8D97-AEF9F66B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94411-2FCB-4393-8E33-A8EAD89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A6250-1297-4CBF-B436-34BD08C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6D207-CCBE-4668-8621-2622C04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C553-FBD7-4E77-9F7F-A289E70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CA30F-8E23-4965-84B2-22D90B7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87E60-E9D2-485E-85FD-B1BCDB44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7A5-EE36-4E1E-9DD4-6CF98AE5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9C69-4EA5-4C92-827D-A8FDBF1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94402-D791-46EE-90A8-583144BD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E8387-06A3-42E6-8716-83BE629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BD3C-97FA-406D-B942-06A70B59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D6493-5130-4DFE-8910-365ADBC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81E89-D0B9-49C8-8A01-94D9D62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4433-1F1D-4B34-8F32-B68AB25D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8235-D47D-4E3A-A750-F3462D1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77A-2C76-4A90-8BAC-274B19C7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336A7-06A2-4FE2-9952-8E982F1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CA1EB-A3F8-404B-95E4-78E14E2E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EF1B-C3A5-40E3-B288-AB389A4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9E536-41C3-467C-921E-C7B3E0DE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C354F-3424-4608-9060-736B16ED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F72BE-CC19-49D9-BC73-4AF23B3D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87EE6-8C8E-4628-8AF2-8AF8CCC2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0B168-32C7-444D-8F1C-74D5D9BB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9F189-D6EF-43DC-B46F-7E63B01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2A082-5B00-4F83-A2AA-3BCA383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45F-5003-4D38-A6CF-583841C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83413-CDA2-439B-925C-AA587C4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B4E37-DCE6-4604-9627-A898374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5F3D8-35C7-49A7-829D-55B871E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0ABD5-959D-400F-A368-0DD74CC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01264-5CF0-4BD4-9915-B7C1C04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B66FA-E805-4CA6-8211-9596CA45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28566-F6B1-4D23-B43D-F8FDA0AF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EB18-13C0-4E26-8CC5-8EC96164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120F-5064-46B8-8E0F-B80233AF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037C-71FA-4513-9CB4-1432F3DF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B72-C96D-4501-92AA-6933419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8B18-DEEB-4C23-A965-4FCC01F4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7076-8700-458D-B5E1-C9818D7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645D-F956-4411-96F5-E554A15F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053D-8E74-4550-B2FF-9A81C8E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36CB-6DF0-4411-80F8-B166E43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0048-8179-42F2-B3C2-BDD5D43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12EB-1E9B-4067-B105-B3AF729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A96F-4AF0-4777-9FDF-E2B3A312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3CFA-B20C-4071-9437-E705028A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FE556-7766-4599-ACB8-08194432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A33-6105-4DA9-9B68-146852E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532D4-23B6-45EB-A27F-DC56DE9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AAB1F-D6BE-4AA9-AA0D-1DA2EC3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DFD3E-DA86-40DB-9F24-3EA2266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6695F-E00F-4925-86DA-5BC7AF5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43F97-B1A0-4790-8A82-D11E8AC3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EAD50-4190-42CC-A053-C759231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513C7-A185-402A-B461-067A5AC8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AACEB-B2EE-4A54-A900-05994DC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CB438-B175-4344-9560-2B798935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8DC64-49DE-48D3-8F07-35EC9EC7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A10-12F0-4D7B-A6D2-6AE1EED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0EBDD-E425-43F2-B33B-132C7465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94B54-07D9-4224-9B25-5648D394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12E28-953E-4825-80AC-051A1063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9526-8174-49AB-A2D2-21EE66E0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6FC8-ADBD-416E-8064-23DDA3C0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211F4-266F-4D9C-BF17-D562735B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0E75-EC51-41A0-9BC5-A35FD7A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FA79-4542-46C6-9C7B-491357E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AC82-42D3-4737-AA1F-0678460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CEBF4-74D5-4086-BF5B-C4BCE8F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81C-7CF6-444B-80EC-AFD0510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88FD5-F6C3-4D0C-BE69-902D1D3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412A-3A9D-4E0C-A792-D58DB14F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75E3-96E3-4944-8708-3AEAD41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CF306-30A3-486E-8B39-83605AAD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BF8E-2033-49F4-9E46-38819D64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621BD-22D0-4EAD-9916-54E6F2B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648FB-7ADA-4A8C-B141-303EB6E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CE4F-B11B-4021-AA5D-E0B2C69E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E7EC-C9CA-4B28-9D6E-285B2B6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E698-8B9C-4550-B2BE-735D89D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25F-03DC-42D2-91C8-CB56673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1BCB-98BC-4C95-A41F-C60324C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9E65-1487-465A-9CE5-F1EB189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71CB-862A-4297-AAA1-48A342A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624D-8212-458B-87E8-AAB1FB40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1F0E6-7104-4C5F-8488-8458D5FF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69B1-B7FB-4FCD-B3AB-D3292E62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CDE7F-697C-4322-B696-6B03830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BC540-B242-4183-9E66-FD11D2D5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B14E9-010B-406D-9DB5-7B94F69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5FF65-CF49-4A7F-87E4-20697CBD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A3D-2500-49C2-A0C5-91A388C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DA35-BF51-4063-A7F2-24EA7BCD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E06F-16E6-4235-9896-CBF6EB6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1858-6716-4E47-AE16-298678F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72F7A-18C3-4419-98BD-C7A79C6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52DC5-8754-48F0-8403-DB8FB00E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6BFC-F28D-4E86-8BF7-C4AFF795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B0ADC-41D1-45F1-A270-1EF2ACF0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1783D-5130-415A-8DB1-3DEFB881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5ACFA-6C97-4F1D-86BD-BD79B3A9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F669B-831E-4D10-97EA-98229657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C7E8-054D-4596-A5ED-73027437B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E8DD-36AD-4638-BCF4-2107DDBB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2689-E7E6-40C9-A6C4-7DC999A6C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CBB8-8DC2-4858-994E-9FD0A58CE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6515-FCCB-45A4-90AA-6DAC9334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9E79-81B3-4767-9ED7-0D26625E3A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BF2B-8338-463F-8276-D900311ABC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6D8-0027-4C45-8794-E283DAACD2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400A-C34C-4B35-A1E6-0E95F939DA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756-803B-49C9-B385-5057E4DFF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Dangerous tornadoes!</a:t>
            </a: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harlie,davon,kourtnie,vic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What are tornadoes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rnadoes are nature’s most violet storms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62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are tornadoes forme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rnadoes are formed from powerful thunderstorms as rotating funnel shaped cloud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72388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What effects do tornadoes have on us?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 cause damage when they touch state is at some risk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85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strong are tornadoes?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en  do tornadoes occur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ostly occur in march and  may from 3 p.m to 9 p.m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505320" y="3152880"/>
            <a:ext cx="38862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here do tornadoes occur the most?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ccur mostly in Tornado Ally. Tornado Ally is located in the areas which include parts of Texas, Oklahoma, Kansas, and Nebrask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496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5:18Z</dcterms:created>
  <dc:creator>Neo</dc:creator>
  <dc:description/>
  <dc:language>en-US</dc:language>
  <cp:lastModifiedBy>Neo</cp:lastModifiedBy>
  <dcterms:modified xsi:type="dcterms:W3CDTF">2010-02-03T17:33:36Z</dcterms:modified>
  <cp:revision>5</cp:revision>
  <dc:subject/>
  <dc:title>Dangerous tornadoes! </dc:title>
</cp:coreProperties>
</file>